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2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no.de/gtw-bin/gtwxml.cgi?opacdb=XMLKOD&amp;uid=KNO%2D26092006%2D101337868%2DF02716&amp;intid=CPC2ZBF&amp;ldbname=KNO&amp;a_full=xxx&amp;IZ=2794&amp;longhtm=long2&amp;t_randomid=2006092610221416&amp;T_INNABB_VARIANTE=zoom&amp;T_INNABB_RANG=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tsmarc.com/crs/shed0014.htm" TargetMode="Externa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obvsg.at/" TargetMode="Externa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92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468360" y="1341360"/>
              <a:ext cx="8675640" cy="71640"/>
            </a:xfrm>
            <a:prstGeom prst="rect">
              <a:avLst/>
            </a:prstGeom>
            <a:gradFill rotWithShape="0">
              <a:gsLst>
                <a:gs pos="0">
                  <a:srgbClr val="f1737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1187280" y="19890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8000"/>
                </a:solidFill>
                <a:latin typeface="Tahoma"/>
              </a:rPr>
              <a:t>Regeln für den Schlagwortkatalog RSWK </a:t>
            </a:r>
            <a:br>
              <a:rPr sz="4400"/>
            </a:br>
            <a:r>
              <a:rPr b="0" lang="de-AT" sz="2800" spc="-1" strike="noStrike">
                <a:solidFill>
                  <a:srgbClr val="008000"/>
                </a:solidFill>
                <a:latin typeface="Tahoma"/>
              </a:rPr>
              <a:t>1.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4076640"/>
            <a:ext cx="6400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Verbund Bildung und Kul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Felizitas Byst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333399"/>
                </a:solidFill>
                <a:latin typeface="Tahoma"/>
              </a:rPr>
              <a:t>felizitas.bystedt@boku.ac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Kursinhal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Schlagwortnormdatei ( SW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truktur der Datens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u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Praktischen Te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schlagwort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Dank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87280" y="2781000"/>
            <a:ext cx="5651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ch danke an dieser Stelle Herrn Mag. Chorherr für die Überlassung seiner Kursunterlagen aus dem Jahre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8000"/>
                </a:solidFill>
                <a:latin typeface="Tahoma"/>
              </a:rPr>
              <a:t>Inhaltserschließ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284720" y="1628280"/>
            <a:ext cx="455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Bertram, Jutta: </a:t>
            </a:r>
            <a:r>
              <a:rPr b="0" lang="de-DE" sz="2000" spc="-1" strike="noStrike">
                <a:solidFill>
                  <a:srgbClr val="000099"/>
                </a:solidFill>
                <a:latin typeface="Tahoma"/>
              </a:rPr>
              <a:t>Einführung in die inhaltliche Erschließung: Grundlagen - Methoden – Instrumente.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Tahoma"/>
              </a:rPr>
              <a:t>ISBN-13: 978-3899134421</a:t>
            </a:r>
            <a:r>
              <a:rPr b="0" lang="de-DE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Leider wird die Beschlagwortung nach RSWK nicht erwäh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8000"/>
                </a:solidFill>
                <a:latin typeface="Tahoma"/>
              </a:rPr>
              <a:t>Inhaltserschließung - Zw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2349000"/>
            <a:ext cx="6400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erschaffen von gezieltem Zugang zu Dok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urteilung von relevanten Dokumenten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Die Suche nach einem Thema ist die häufigste Suc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436536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4a540e"/>
                </a:solidFill>
                <a:uFillTx/>
                <a:latin typeface="Arial"/>
                <a:ea typeface="Times New Roman"/>
              </a:rPr>
              <a:t>Schlag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1072"/>
                </a:solidFill>
                <a:latin typeface="Arial"/>
                <a:ea typeface="Times New Roman"/>
              </a:rPr>
              <a:t>Deutschland &lt;DDR&gt; - Ess- und Trinksitte - Geschi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516640"/>
            <a:ext cx="842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4a540e"/>
                </a:solidFill>
                <a:uFillTx/>
                <a:latin typeface="Arial"/>
                <a:ea typeface="Times New Roman"/>
              </a:rPr>
              <a:t>Notation aus einer Klassifik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1072"/>
                </a:solidFill>
                <a:latin typeface="Arial"/>
                <a:ea typeface="Arial"/>
              </a:rPr>
              <a:t>LC 17015 = Regionale Et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a540e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49360"/>
            <a:ext cx="2048040" cy="3504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48000" y="476280"/>
            <a:ext cx="579600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 u="sng">
                <a:solidFill>
                  <a:srgbClr val="4a540e"/>
                </a:solidFill>
                <a:uFillTx/>
                <a:latin typeface="Arial"/>
                <a:ea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a540e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cc1072"/>
                </a:solidFill>
                <a:latin typeface="Arial"/>
                <a:ea typeface="Arial"/>
              </a:rPr>
              <a:t>Die DDR ist untergegangen und mit ihr die Durchreicheküchen der Plattenbauten, die Kübel der Kantinen und die herrschsüchtigen Kellner der HO-Gaststätten. Doch Spreewaldgurken, Hallorenkugeln und Rotkäppchensekt erfreuen sich ungebrochener Beliebtheit. Subjektiv und voll erfrischender Ironie erinnert Jutta Voigt an Grilletta und Goldbroiler, an Westapfelsinen und Sarotti-Mohr. Als Zeitzeugin und Tischgenossin beschreibt sie das Einkaufsverhalten, herkömmliche Produkte sowie die untergegangene Restaurantkultur zwischen Kap Arkona und Suhl. Eine Reise durch die Kulinaria der DDR: erhellend und ganz und gar nicht geschmack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Klassifikation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68360" y="1413000"/>
            <a:ext cx="6500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Elemente einer Klassifikation sind die Klas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Systematische Ordnung nach Merkmalen „Gleiches zu Gleichem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„</a:t>
            </a: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Schubladensystem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Notation wird vergeb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Klassifikation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58920" y="1413000"/>
            <a:ext cx="751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Klassifikation als Aufstellungssystema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Beispiele für Klassifikation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RVK Regensburger Verbundklassifik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http://rvk.uni-regensburg.d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DDC: Dewey Dezimalklassifik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http://melvil.d-nb.de/melvil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Verbale Inhaltserschließung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63280" y="1981080"/>
            <a:ext cx="714852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Erschließung mit Wör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Stichwörter: Wörter frei gewäh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Deskriptoren: Wörter entstammen einer Liste z.B. Schlagwortnormdatei oder einem Thesau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8230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34200" y="6078600"/>
            <a:ext cx="2809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agwortk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B-Graz aus 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5445000"/>
            <a:ext cx="28429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atischer K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Klassifik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boldt-Univ. 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8000"/>
                </a:solidFill>
                <a:latin typeface="Tahoma"/>
              </a:rPr>
              <a:t>Universitätsbibliothek Bodenkul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3075"/>
          <a:stretch/>
        </p:blipFill>
        <p:spPr>
          <a:xfrm>
            <a:off x="1857240" y="1471680"/>
            <a:ext cx="59896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eschicht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77800" y="2060280"/>
            <a:ext cx="744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1976 Expertengruppe in Deutschland Vorschlag für eine genormte Schlagwortli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1986 Publikation der ersten Regeln für den Schlagwortk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1984 bis 1987 Zusammenstellen der "Standardschlagwortliste" von der Deutschen Bibliothek und der UB Aug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prachvielfal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93440" y="234900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eutsche Sprache bis 500 000 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je nachdem wie man das si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azu noch: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Fach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Grammatikalische F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igenn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Geographische Bezeichnun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8000"/>
                </a:solidFill>
                <a:latin typeface="Tahoma"/>
              </a:rPr>
              <a:t>Sprachvielf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Sprache und ihre Phäno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 und derselbe Sachverhalt kann auf verschiedene Art ausgedrückt werden.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Bauer - Landwirt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e Bezeichnung kann unterschiedliche Begriffe vertre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Tahoma"/>
                <a:ea typeface="Tahoma"/>
              </a:rPr>
              <a:t>Brücke: Zahnmedizin, Bauwerk, Künstlervereinigung, Teppich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Einheitlichkei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ie Beschlagwortung soll einheitlich s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ie verwendeten Schlagwörter sollen genormt angesetzt s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Nic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Wien / Bundesministerium für Fina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Wien / Innenministe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Grund für die Entstehung der Regeln für den Schlagwortk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8000"/>
                </a:solidFill>
                <a:latin typeface="Tahoma"/>
              </a:rPr>
              <a:t>Auswahl an Wör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626920" y="2565360"/>
            <a:ext cx="57596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Nur eine Auswahl an Wörtern wird zum Schlagw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116000" y="83664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333399"/>
                </a:solidFill>
                <a:uFillTx/>
                <a:latin typeface="Tahoma"/>
                <a:ea typeface="Tahoma"/>
              </a:rPr>
              <a:t>Das Regelwerk legt fest</a:t>
            </a:r>
            <a:r>
              <a:rPr b="0" lang="de-DE" sz="4000" spc="-1" strike="noStrike">
                <a:solidFill>
                  <a:srgbClr val="333399"/>
                </a:solidFill>
                <a:latin typeface="Tahoma"/>
                <a:ea typeface="Tahom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ahoma"/>
              </a:rPr>
              <a:t>wie ein neues Schlagwort 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ahoma"/>
              </a:rPr>
              <a:t>anzusetzen ist 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wie die vorhandenen 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chlagwörter zu verwenden 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ind um den Inhalt eines 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Buches wiederzuge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ndere Regelwer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2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LCSH: Library of Congress Subject 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tsmarc.com/crs/shed0014.ht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RAMEAU ( Répertoire d‘autorité-matière encyclopédique et alphabétique unifi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ttp://rameau.bnf.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OGGET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Information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95640" y="2060640"/>
            <a:ext cx="665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ahoma"/>
                <a:ea typeface="Arial Unicode MS"/>
              </a:rPr>
              <a:t>Auf den Seiten der deutschen Nationalbibliothek gibt es zahlreiche Informationen und Unterlagen, meist für die Entwicklung des Regelwerkes und Pflege der S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ttp://www.d-nb.de/standardisierung/index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Werke für die Arbei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99"/>
                </a:solidFill>
                <a:uFillTx/>
                <a:latin typeface="Tahoma"/>
                <a:ea typeface="Arial Unicode MS"/>
              </a:rPr>
              <a:t>Regeln für den Schlagwortkatalog</a:t>
            </a:r>
            <a:r>
              <a:rPr b="0" lang="de-D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 : RSWK. - 3. Aufl. - Berlin :Dt. Bibl.-Inst., 1998-. - Losebl.-Aus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inkl. Ergänzungslieferungen (7. Erg.Lg. Mai 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	</a:t>
            </a:r>
            <a:r>
              <a:rPr b="1" lang="de-DE" sz="2800" spc="-1" strike="noStrike">
                <a:solidFill>
                  <a:srgbClr val="f17373"/>
                </a:solidFill>
                <a:latin typeface="Tahoma"/>
                <a:ea typeface="Arial Unicode MS"/>
              </a:rPr>
              <a:t>Einzig gültige Version im Interne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Online-Ausga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files.d-nb.de/pdf/rswk_gesamtausgabe_stand_7el_2010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Werke für die Arbei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520" y="1628280"/>
            <a:ext cx="72961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000099"/>
                </a:solidFill>
                <a:uFillTx/>
                <a:latin typeface="Arial"/>
              </a:rPr>
              <a:t>Beispielsammlung zu den Regeln für den Schlagwortkatalog</a:t>
            </a:r>
            <a:r>
              <a:rPr b="0" lang="de-AT" sz="2400" spc="-1" strike="noStrike">
                <a:solidFill>
                  <a:srgbClr val="000099"/>
                </a:solidFill>
                <a:latin typeface="Arial"/>
              </a:rPr>
              <a:t> (RSWK) / Deutsches Bibliotheksinstitut. [Bearb. von Gerhard Stumpf unter Mitarb. von Hans-Jürgen Schubert]. - 2., vollst. neu bearb. Aufl. nach der 3. Aufl. des Regelwerks. - Berlin : Dt. Bibliotheksinst., 1999. - 218 S.. - ISBN: 3-87068-615-4. (nicht aktualisiert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000099"/>
                </a:solidFill>
                <a:uFillTx/>
                <a:latin typeface="Arial"/>
              </a:rPr>
              <a:t>Praxisregeln zu den Regeln für den Schlagwortkatalog (RSWK</a:t>
            </a:r>
            <a:r>
              <a:rPr b="0" lang="de-AT" sz="24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r>
              <a:rPr b="0" lang="de-AT" sz="2400" spc="-1" strike="noStrike">
                <a:solidFill>
                  <a:srgbClr val="000099"/>
                </a:solidFill>
                <a:latin typeface="Arial"/>
              </a:rPr>
              <a:t> und der Schlagwortnormdatei (SWD). - 2. Aufl. - Frankfurt, Main [u.a.] : Dt. Bibl.,1995-. - Losebl.-Ausg. - Erg.-Lfg. 1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457200"/>
            <a:ext cx="7749720" cy="6400800"/>
            <a:chOff x="914400" y="457200"/>
            <a:chExt cx="7749720" cy="6400800"/>
          </a:xfrm>
        </p:grpSpPr>
        <p:pic>
          <p:nvPicPr>
            <p:cNvPr id="49" name="" descr="Sleeping Peacefully"/>
            <p:cNvPicPr/>
            <p:nvPr/>
          </p:nvPicPr>
          <p:blipFill>
            <a:blip r:embed="rId1"/>
            <a:srcRect l="18342" t="23918" r="27264" b="9424"/>
            <a:stretch/>
          </p:blipFill>
          <p:spPr>
            <a:xfrm>
              <a:off x="2349360" y="1803600"/>
              <a:ext cx="6314760" cy="50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914400" y="457200"/>
              <a:ext cx="3901680" cy="421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Werke für die Arbei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239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000099"/>
                </a:solidFill>
                <a:uFillTx/>
                <a:latin typeface="Tahoma"/>
              </a:rPr>
              <a:t>Liste der fachlichen Nachschlagewerke zu den Normdateien</a:t>
            </a:r>
            <a:r>
              <a:rPr b="0" lang="de-AT" sz="2400" spc="-1" strike="noStrike">
                <a:solidFill>
                  <a:srgbClr val="000099"/>
                </a:solidFill>
                <a:latin typeface="Tahoma"/>
              </a:rPr>
              <a:t> (SWD, GKD). -Frankfurt, Main : Dt. Bibl. - Ersch. jährlich. Gedruckte Ausgabe oder im Internet: http://support.ddb.de/swd/listeNSW/index.htm</a:t>
            </a:r>
            <a:r>
              <a:rPr b="1" lang="de-AT" sz="24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000099"/>
                </a:solidFill>
                <a:uFillTx/>
                <a:latin typeface="Tahoma"/>
              </a:rPr>
              <a:t>SWD-Sachgruppen : ein Leitfaden zu ihrer Vergabe</a:t>
            </a:r>
            <a:r>
              <a:rPr b="0" lang="de-AT" sz="2400" spc="-1" strike="noStrike">
                <a:solidFill>
                  <a:srgbClr val="000099"/>
                </a:solidFill>
                <a:latin typeface="Tahoma"/>
              </a:rPr>
              <a:t> / Bearb.: Walther Traiser. - Leipzig ; Frankfurt am Main ; Berlin : Die Dt. Bibliothek, 2000. - ISBN 3-933641-19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99"/>
                </a:solidFill>
                <a:latin typeface="Tahoma"/>
              </a:rPr>
              <a:t>Die RSWK und die dazugehörigen Praxisregeln sind Loseblattausgaben, damit Änderungen und Weiterentwicklungen eingearbeitet werden kö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Werke für die Arbei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00000" y="1752120"/>
            <a:ext cx="82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 u="sng">
                <a:solidFill>
                  <a:srgbClr val="000099"/>
                </a:solidFill>
                <a:uFillTx/>
                <a:latin typeface="Tahoma"/>
              </a:rPr>
              <a:t>Notationen der SWD-Sachgru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d-nb.de/standardisierung/pdf/swd_syst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 u="sng">
                <a:solidFill>
                  <a:srgbClr val="000099"/>
                </a:solidFill>
                <a:uFillTx/>
                <a:latin typeface="Tahoma"/>
              </a:rPr>
              <a:t>Liste der Ländercodes nach DIN EN 2316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</a:rPr>
              <a:t>Der Leitfaden zur Vergabe des LC ist Teil der Praxisregeln zu den RSW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http://www.d-nb.de/standardisierung/pdf/laendercodes_alph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http://www.d-nb.de/standardisierung/pdf/laendercodes_syst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 u="sng">
                <a:solidFill>
                  <a:srgbClr val="000099"/>
                </a:solidFill>
                <a:uFillTx/>
                <a:latin typeface="Tahoma"/>
              </a:rPr>
              <a:t>Dewey Dezimalklassifikation 22. Aufl</a:t>
            </a:r>
            <a:r>
              <a:rPr b="0" lang="de-AT" sz="2800" spc="-1" strike="noStrike">
                <a:solidFill>
                  <a:srgbClr val="000099"/>
                </a:solidFill>
                <a:latin typeface="Tahoma"/>
              </a:rPr>
              <a:t>. deutsch. Hilfstafel 2 , Geographische Geb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Werke für die Arbei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10920" y="1916280"/>
            <a:ext cx="644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99"/>
                </a:solidFill>
                <a:latin typeface="Tahoma"/>
              </a:rPr>
              <a:t>Für die Beschlagwortung ist nur das Regelwerk notwend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99"/>
                </a:solidFill>
                <a:latin typeface="Tahoma"/>
              </a:rPr>
              <a:t>Alle anderen Werke  sind meist nur bei Neuansetzungen von Schlagwörtern wicht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Zugang zur S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987280" y="1676520"/>
            <a:ext cx="6156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eutsche Nationalbibliothek in Frankf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gespeist in die Bibliothekssysteme der Verbünde, Lieferungen oder Z3970-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Normdaten-DV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5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8000"/>
                </a:solidFill>
                <a:latin typeface="Tahoma"/>
              </a:rPr>
              <a:t>Zugang zur S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95280" y="1584000"/>
            <a:ext cx="8361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ahoma"/>
                <a:ea typeface="Times New Roman"/>
              </a:rPr>
              <a:t>Inter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ahom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ahoma"/>
                <a:ea typeface="Times New Roman"/>
              </a:rPr>
              <a:t>Deutsche Nationalbibliothek (z3950-Gateway) im Rahmen der Katalog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ahoma"/>
                <a:ea typeface="Times New Roman"/>
              </a:rPr>
              <a:t>http://z3950gw.dbf.ddb.de/z3950/zfo_get_file.cgi?fileName=DDB/searchForm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ahoma"/>
                <a:ea typeface="Times New Roman"/>
              </a:rPr>
              <a:t>HBZ – Hochschulbibliothekszentrum des Landes </a:t>
            </a:r>
            <a:r>
              <a:rPr b="1" lang="de-DE" sz="1800" spc="-1" strike="noStrike">
                <a:solidFill>
                  <a:srgbClr val="0033cc"/>
                </a:solidFill>
                <a:latin typeface="Tahoma"/>
              </a:rPr>
              <a:t>Nordrhein-Westfalen</a:t>
            </a:r>
            <a:r>
              <a:rPr b="0" lang="de-DE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ahoma"/>
                <a:ea typeface="Times New Roman"/>
              </a:rPr>
              <a:t>http://okeanos-www.hbz-nrw.de/F?func=file&amp;file_name=find-a&amp;local_base=hbz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OSWD online des Südwestdeutschen Bibliotheksverbundes (SW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swb.bsz-bw.de/DB=2.104/?COOKIE=U998,Pbszgast,I17,B0728+,SY,NRecherche-DB,D2.104,E1cc155be-2f1,A,H,R141.244.66.143,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Zugang zur S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477440" y="1699920"/>
            <a:ext cx="766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m Verbund der Wissenschaftlichen Bibliotheken Österreichs derze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n Aleph als Datenbank (ACC12) integrie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mal wöchentlich werden die Daten aktualisiert. (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Direkteingabe in Vorbereitung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(Neuansetzungen, Änderungen, Löschu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Zusammenarbei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981080" y="2590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Jeder, der nach RSWK beschlagwortet und die Normdatei verwendet ist Mitarbei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8000"/>
                </a:solidFill>
                <a:latin typeface="Tahoma"/>
                <a:ea typeface="Times New Roman"/>
              </a:rPr>
              <a:t>Arbeit an der Schlagwortnormdat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5261400"/>
            <a:ext cx="19051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4a5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99983"/>
                </a:solidFill>
                <a:latin typeface="Verdana"/>
              </a:rPr>
              <a:t>Deutsche Verbü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6176160"/>
            <a:ext cx="1871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4a5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99983"/>
                </a:solidFill>
                <a:latin typeface="Verdana"/>
              </a:rPr>
              <a:t>Schwe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204360"/>
            <a:ext cx="1218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4a5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99983"/>
                </a:solidFill>
                <a:latin typeface="Verdana"/>
              </a:rPr>
              <a:t>us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6333480"/>
            <a:ext cx="2361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4a5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99983"/>
                </a:solidFill>
                <a:latin typeface="Verdana"/>
              </a:rPr>
              <a:t>Öster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1848600"/>
            <a:ext cx="65534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4a5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99983"/>
                </a:solidFill>
                <a:latin typeface="Verdana"/>
              </a:rPr>
              <a:t>Deutsche Nationalbiblioth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1773360"/>
            <a:ext cx="1066680" cy="520560"/>
          </a:xfrm>
          <a:prstGeom prst="rect">
            <a:avLst/>
          </a:prstGeom>
          <a:solidFill>
            <a:srgbClr val="f9998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a540e"/>
                </a:solidFill>
                <a:latin typeface="Times New Roman"/>
              </a:rPr>
              <a:t>S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191120"/>
            <a:ext cx="1371600" cy="520560"/>
          </a:xfrm>
          <a:prstGeom prst="rect">
            <a:avLst/>
          </a:prstGeom>
          <a:solidFill>
            <a:srgbClr val="f9998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a540e"/>
                </a:solidFill>
                <a:latin typeface="Times New Roman"/>
              </a:rPr>
              <a:t>ÖS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632840"/>
            <a:ext cx="2819160" cy="1167480"/>
          </a:xfrm>
          <a:prstGeom prst="rect">
            <a:avLst/>
          </a:prstGeom>
          <a:solidFill>
            <a:srgbClr val="505a0f"/>
          </a:solidFill>
          <a:ln w="9360">
            <a:solidFill>
              <a:srgbClr val="4a5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99983"/>
                </a:solidFill>
                <a:latin typeface="Verdana"/>
              </a:rPr>
              <a:t>Bibliothekenverbund Öster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entralreda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057400" y="2362320"/>
            <a:ext cx="83808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828800" y="2438280"/>
            <a:ext cx="9144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733920" y="2514600"/>
            <a:ext cx="4572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429000" y="2514600"/>
            <a:ext cx="6094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3344760"/>
            <a:ext cx="3200400" cy="825480"/>
          </a:xfrm>
          <a:prstGeom prst="rect">
            <a:avLst/>
          </a:prstGeom>
          <a:solidFill>
            <a:srgbClr val="505a0f"/>
          </a:solidFill>
          <a:ln w="9360">
            <a:solidFill>
              <a:srgbClr val="4a5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99983"/>
                </a:solidFill>
                <a:latin typeface="Verdana"/>
              </a:rPr>
              <a:t>Österreichischer Normdatenverb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019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51814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6019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Lokalredak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6019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943600"/>
            <a:ext cx="1295280" cy="304920"/>
          </a:xfrm>
          <a:prstGeom prst="rect">
            <a:avLst/>
          </a:prstGeom>
          <a:solidFill>
            <a:srgbClr val="505a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562720"/>
            <a:ext cx="1295280" cy="304560"/>
          </a:xfrm>
          <a:prstGeom prst="rect">
            <a:avLst/>
          </a:prstGeom>
          <a:solidFill>
            <a:srgbClr val="505a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5181480"/>
            <a:ext cx="1295280" cy="304920"/>
          </a:xfrm>
          <a:prstGeom prst="rect">
            <a:avLst/>
          </a:prstGeom>
          <a:solidFill>
            <a:srgbClr val="505a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53341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556272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33720" y="6019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28800" y="6019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800600" y="2514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486040" y="2514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2514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14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781680" y="5105160"/>
            <a:ext cx="10670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781680" y="5409720"/>
            <a:ext cx="10670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781680" y="57150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SWD / </a:t>
            </a:r>
            <a:r>
              <a:rPr b="0" lang="sv-SE" sz="4400" spc="-1" strike="noStrike">
                <a:solidFill>
                  <a:srgbClr val="008000"/>
                </a:solidFill>
                <a:latin typeface="Tahoma"/>
              </a:rPr>
              <a:t>Ö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SWD (</a:t>
            </a:r>
            <a:r>
              <a:rPr b="0" lang="de-DE" sz="3600" spc="-1" strike="noStrike">
                <a:solidFill>
                  <a:srgbClr val="008000"/>
                </a:solidFill>
                <a:latin typeface="Tahoma"/>
              </a:rPr>
              <a:t>Situation 201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191592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ÖSWD - Die österreichische Normdatei besteht aus den Daten der Quelldatei in Frankfurt und österreichischen Datensätzen, die nach dem alten Redaktionsverfahren nie nach Frankfurt eingegeben wu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Die Datensatznummer beginnt mit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Heute werden alle Datensätze in die Quelldatei in Frankfurt abgespeich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SWD-Redak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 an der Universität W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SWD / </a:t>
            </a:r>
            <a:r>
              <a:rPr b="0" lang="sv-SE" sz="4400" spc="-1" strike="noStrike">
                <a:solidFill>
                  <a:srgbClr val="008000"/>
                </a:solidFill>
                <a:latin typeface="Tahoma"/>
              </a:rPr>
              <a:t>Ö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SWD Konsequen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Datensätze mit AS- Nummern sind für die anderen Verbünde (Deutschland) nicht sichtb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Es gibt daher immer wieder Dubletten, d.h. ein Datensatz mit Frankfurter und einer mit AS-Nummer. In dem Fall wird für die Beschlagwortung der deutsche Datensatz verwendet, die Dublette wird an die Verbundzentrale gemeld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Vorstellrund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5500"/>
          <a:stretch/>
        </p:blipFill>
        <p:spPr>
          <a:xfrm>
            <a:off x="3059280" y="2060640"/>
            <a:ext cx="3809880" cy="3600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2232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3933720"/>
            <a:ext cx="223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Arial"/>
              </a:rPr>
              <a:t>Wün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1628640"/>
            <a:ext cx="223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Arial"/>
              </a:rPr>
              <a:t>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5805360"/>
            <a:ext cx="67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Arial"/>
              </a:rPr>
              <a:t>Vorbildung bzgl. Beschlagwor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141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Arial"/>
              </a:rPr>
              <a:t>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SWD / </a:t>
            </a:r>
            <a:r>
              <a:rPr b="0" lang="sv-SE" sz="4400" spc="-1" strike="noStrike">
                <a:solidFill>
                  <a:srgbClr val="008000"/>
                </a:solidFill>
                <a:latin typeface="Tahoma"/>
              </a:rPr>
              <a:t>Ö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SWD Konsequen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1773360"/>
            <a:ext cx="777240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Gibt es das Schlagwort nur als AS-Satz, kann man es für die Beschlagwortung verwenden. Es sollte eine Meldung an die Verbundzentrale erfolgen, damit der DS in die Quelldatei weitergeleitet wi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AS-Datensätze entsprechen oft nicht den neuesten Regelun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Teilnehmer an der S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83840" y="2106720"/>
            <a:ext cx="7759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ie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eutschen Bibliothek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er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Bibliotheksverbund Bayern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(BV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er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Südwestdeutsche Bibliotheksverbund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(SW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as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Hochschulbibliothekszentrum des Landes Nordrhein-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Westfalen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(HBZ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er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Gemeinsamen Bibliotheksverbund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der Länder Bremen,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Hamburg, Mecklenburg-Vorpommern, Niedersachsen,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Sachsen-Anhalt, Schleswig-Holstein und Thüringen (GB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er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Kooperative Bibliotheksverbund Berlin-Brandenburg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(KOB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er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Hessischen Bibliotheksverbund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(Heb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er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Österreichische Bibliothekenverbund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1" lang="de-AT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er Österreichische Normdatenverb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ie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Schweizerische Landesbibliothek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(SL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der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Kunstbibliotheken-Fachverbund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 Florenz-München-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Informat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Homepage des Österreichischen Bibliothekenverbun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bvsg.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eiten der Zentralredaktion und Informationsseiten aus den Treffen der SWD-Redaktion mit den Lokalredakteu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lagwörter - SWD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981080" y="259056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Nur eine Auswahl von Wörtern wird als Schlagwörter = Deskriptoren zugela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e werden in einer Liste, der Schlagwortnormdatei (=SWD) gespeich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Neue Schlagwörter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63280" y="2060280"/>
            <a:ext cx="7162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99"/>
                </a:solidFill>
                <a:latin typeface="Tahoma"/>
              </a:rPr>
              <a:t>Neue Literatur erfordert oft neue Schlagwör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99"/>
                </a:solidFill>
                <a:latin typeface="Tahoma"/>
              </a:rPr>
              <a:t>Die Normdatei wird ständig erweite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99"/>
                </a:solidFill>
                <a:latin typeface="Tahoma"/>
              </a:rPr>
              <a:t>Neue Schlagwörter werden „angesetzt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nsetzung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Prinzip der Gebräuchlich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Arial Unicode MS"/>
              </a:rPr>
              <a:t>Allgemeinsprache - Fach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nzyklopädie (Brockha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Liste der fachlichen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Nachschlagewer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  <a:ea typeface="Arial Unicode MS"/>
              </a:rPr>
              <a:t>http://support.ddb.de/swd/listeNSW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Ne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www.univie.ac.at/n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nsetzung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Rechtschreibung: Duden in der neuesten Fass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8000"/>
                </a:solidFill>
                <a:latin typeface="Tahoma"/>
              </a:rPr>
              <a:t>Arten der Schlagwörter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 u="sng">
                <a:solidFill>
                  <a:srgbClr val="0033cc"/>
                </a:solidFill>
                <a:uFillTx/>
                <a:latin typeface="Tahoma"/>
                <a:ea typeface="Times New Roman"/>
              </a:rPr>
              <a:t>Allgemeinbegri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cc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0033cc"/>
                </a:solidFill>
                <a:latin typeface="Tahoma"/>
                <a:ea typeface="Times New Roman"/>
              </a:rPr>
              <a:t>Auto, Verein, Unterne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cc"/>
                </a:solidFill>
                <a:latin typeface="Tahoma"/>
                <a:ea typeface="Times New Roman"/>
              </a:rPr>
              <a:t> </a:t>
            </a:r>
            <a:r>
              <a:rPr b="1" lang="de-AT" sz="3200" spc="-1" strike="noStrike" u="sng">
                <a:solidFill>
                  <a:srgbClr val="0033cc"/>
                </a:solidFill>
                <a:uFillTx/>
                <a:latin typeface="Tahoma"/>
                <a:ea typeface="Times New Roman"/>
              </a:rPr>
              <a:t>Individualbegri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cc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0033cc"/>
                </a:solidFill>
                <a:latin typeface="Tahoma"/>
                <a:ea typeface="Times New Roman"/>
              </a:rPr>
              <a:t>VW G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cc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0033cc"/>
                </a:solidFill>
                <a:latin typeface="Tahoma"/>
                <a:ea typeface="Times New Roman"/>
              </a:rPr>
              <a:t>Pfadfindergruppe Wien 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33cc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0033cc"/>
                </a:solidFill>
                <a:latin typeface="Tahoma"/>
                <a:ea typeface="Times New Roman"/>
              </a:rPr>
              <a:t>Holzbau Grund Gmb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8000"/>
                </a:solidFill>
                <a:latin typeface="Tahoma"/>
              </a:rPr>
              <a:t>Formen des Schlagwortes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87280" y="2133360"/>
            <a:ext cx="795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d90303"/>
                </a:solidFill>
                <a:latin typeface="Tahoma"/>
              </a:rPr>
              <a:t>Griechische Schrift</a:t>
            </a:r>
            <a:r>
              <a:rPr b="0" lang="de-AT" sz="2400" spc="-1" strike="noStrike">
                <a:solidFill>
                  <a:srgbClr val="0033cc"/>
                </a:solidFill>
                <a:latin typeface="Tahoma"/>
              </a:rPr>
              <a:t> (Adjektiv-Substantiv-Verbind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d90303"/>
                </a:solidFill>
                <a:latin typeface="Tahoma"/>
              </a:rPr>
              <a:t>Word 2000</a:t>
            </a:r>
            <a:r>
              <a:rPr b="0" lang="de-AT" sz="2400" spc="-1" strike="noStrike">
                <a:solidFill>
                  <a:srgbClr val="0033cc"/>
                </a:solidFill>
                <a:latin typeface="Tahoma"/>
              </a:rPr>
              <a:t> (Wörter mit Ziffe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d90303"/>
                </a:solidFill>
                <a:latin typeface="Tahoma"/>
              </a:rPr>
              <a:t>Kiefer &lt;Anatomie&gt;</a:t>
            </a:r>
            <a:r>
              <a:rPr b="0" lang="de-AT" sz="2400" spc="-1" strike="noStrike">
                <a:solidFill>
                  <a:srgbClr val="0033cc"/>
                </a:solidFill>
                <a:latin typeface="Tahoma"/>
              </a:rPr>
              <a:t> (Homonymenzusa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d90303"/>
                </a:solidFill>
                <a:latin typeface="Tahoma"/>
              </a:rPr>
              <a:t>Wien / Universität</a:t>
            </a:r>
            <a:r>
              <a:rPr b="0" lang="de-AT" sz="2400" spc="-1" strike="noStrike">
                <a:solidFill>
                  <a:srgbClr val="0033cc"/>
                </a:solidFill>
                <a:latin typeface="Tahoma"/>
              </a:rPr>
              <a:t> (mehrgliedriges Schlagw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d90303"/>
                </a:solidFill>
                <a:latin typeface="Tahoma"/>
              </a:rPr>
              <a:t>Büchner, Georg / Dantons Tod</a:t>
            </a:r>
            <a:r>
              <a:rPr b="0" lang="de-AT" sz="2400" spc="-1" strike="noStrike">
                <a:solidFill>
                  <a:srgbClr val="0033cc"/>
                </a:solidFill>
                <a:latin typeface="Tahoma"/>
              </a:rPr>
              <a:t> (mehrgl. SW, Werktit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d90303"/>
                </a:solidFill>
                <a:latin typeface="Tahoma"/>
              </a:rPr>
              <a:t>Abū-Saīd Ibn-Abi'l-Hair</a:t>
            </a:r>
            <a:r>
              <a:rPr b="0" lang="de-AT" sz="2400" spc="-1" strike="noStrike">
                <a:solidFill>
                  <a:srgbClr val="0033cc"/>
                </a:solidFill>
                <a:latin typeface="Tahoma"/>
              </a:rPr>
              <a:t> (Name, Vor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d90303"/>
                </a:solidFill>
                <a:latin typeface="Tahoma"/>
              </a:rPr>
              <a:t>AEG-Aktiengesellschaft</a:t>
            </a:r>
            <a:r>
              <a:rPr b="0" lang="de-AT" sz="2400" spc="-1" strike="noStrike">
                <a:solidFill>
                  <a:srgbClr val="0033cc"/>
                </a:solidFill>
                <a:latin typeface="Tahoma"/>
              </a:rPr>
              <a:t> (Individualname einer Körpersch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d90303"/>
                </a:solidFill>
                <a:latin typeface="Tahoma"/>
              </a:rPr>
              <a:t>Beta2-Protein</a:t>
            </a:r>
            <a:r>
              <a:rPr b="0" lang="de-AT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de-AT" sz="2400" spc="-1" strike="noStrike">
                <a:solidFill>
                  <a:srgbClr val="0033cc"/>
                </a:solidFill>
                <a:latin typeface="Tahoma"/>
              </a:rPr>
              <a:t> (Chemische Form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</a:rPr>
              <a:t>Datenfor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cc"/>
                </a:solidFill>
                <a:latin typeface="Tahoma"/>
              </a:rPr>
              <a:t>Jedes Schlagwort ist ein eigener Datensatz in der SW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cc"/>
                </a:solidFill>
                <a:latin typeface="Tahoma"/>
              </a:rPr>
              <a:t>Es gibt ein eigenes Datenformat (MAB) für SWD-Datensätze, das vorgibt, welche Felder (Kategorien) eingetragen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cc"/>
                </a:solidFill>
                <a:latin typeface="Tahoma"/>
              </a:rPr>
              <a:t>Genormte Datenformate dienen zur Erleichterung des Datenaustausches. Andere internat. Formate: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33cc"/>
                </a:solidFill>
                <a:latin typeface="Tahoma"/>
              </a:rPr>
              <a:t>Umstieg auf Marc steht bev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Organisatorisches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835280" y="1916280"/>
            <a:ext cx="7308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35 Einhei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Zeitplan Vorschla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o: 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10.30 – 12.30 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13.30 – 16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i Mi Do: 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8.15 – 12.30 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13.30 – 16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Fr: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8.15 – 12.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1 h Mittags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ormittag, Nachmittag ¼ h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Kategorien</a:t>
            </a:r>
            <a:r>
              <a:rPr b="1" lang="de-DE" sz="4400" spc="-1" strike="noStrike">
                <a:solidFill>
                  <a:srgbClr val="008000"/>
                </a:solidFill>
                <a:latin typeface="Tahoma"/>
              </a:rPr>
              <a:t> - Fe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828800" y="17524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028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Verlinkung zu anderen Normdat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036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Lände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040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Notation der SWD-Syste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040 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Notation für Geographika aus den 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Hilfstafeln der D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00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Schlagwort (Deskriptor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Vorzugsbezeichnung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Ansetzungsform) + Kategorienan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01-805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Weitere Teile eines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mehrgliedrigen Schlagw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08a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Quelle (abgekürztes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Nachschlagewerk, "Vorlage"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"analog" o.ä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Kategorien</a:t>
            </a:r>
            <a:r>
              <a:rPr b="1" lang="de-DE" sz="4400" spc="-1" strike="noStrike">
                <a:solidFill>
                  <a:srgbClr val="008000"/>
                </a:solidFill>
                <a:latin typeface="Tahoma"/>
              </a:rPr>
              <a:t> - Felder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447560" y="17524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08b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Definition bzw. Umschreibung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(obligatorisch bei Personennamen und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allen nicht selbsterklärenden Begriffen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ohne Nachweis in Nachschlagewer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08c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Benutzungshinweise, Abgrenzung von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anderen Schlagwörter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30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Äquivalente Bezeichnung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(Nichtdeskriptor, Synonym zur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Ansetzungsform, auch Verknüpfung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mehrerer Begriffe, Umkehrform bei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mehrgliedrigen Schlagwörter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„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siehe:“ - Ver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Kategorien</a:t>
            </a:r>
            <a:r>
              <a:rPr b="1" lang="de-DE" sz="4400" spc="-1" strike="noStrike">
                <a:solidFill>
                  <a:srgbClr val="008000"/>
                </a:solidFill>
                <a:latin typeface="Tahoma"/>
              </a:rPr>
              <a:t> - Felder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47560" y="17524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45 MO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Mehrgliedriger Oberbegr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50 OB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Unmittelbar übergeordneter Oberbegriff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(hierarchische Beziehu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60 VB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Verwandter Begriff (assoziative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Beziehung) siehe auch- Ver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70 CF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Früherer Name bei geographischen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bzw. Körperschaftsschlagwört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880 CS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Späterer Name bei geographischen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Arial Unicode MS"/>
              </a:rPr>
              <a:t>bzw. Körperschaftsschlagwört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Kategorien - Übersich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erbal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Codier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mer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erwaltungsinform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Codier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492000" y="2421000"/>
            <a:ext cx="5651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cc"/>
                </a:solidFill>
                <a:latin typeface="Tahoma"/>
              </a:rPr>
              <a:t>Länder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cc"/>
                </a:solidFill>
                <a:latin typeface="Tahoma"/>
              </a:rPr>
              <a:t>Klassifikation – SWD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cc"/>
                </a:solidFill>
                <a:latin typeface="Tahoma"/>
              </a:rPr>
              <a:t>DD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Codier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618920" y="1773360"/>
            <a:ext cx="7148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</a:rPr>
              <a:t>Kennzeichnung der Schlagwortkategorie - Ent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p  Personen-SW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g Geographikum, Ethnographi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s  Sachschlagw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c  Körperschaft ortsgebu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k  Körperschaft nicht ortsgebu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t  T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z  Zeitschlagw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f  Formschlagw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merk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Quellenanga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efini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erwendungshinw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Redaktionelle Bemer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eispiel: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Deutschland, Lager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d90303"/>
                </a:solidFill>
                <a:latin typeface="Tahoma"/>
                <a:ea typeface="Times New Roman"/>
              </a:rPr>
              <a:t>Übung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835280" y="1628640"/>
            <a:ext cx="698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Suchen Sie Schlagwörter in der SWD und untersuchen Sie die einzelnen Kategori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Codierungen, Bemerkung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Welche gibt es? Was bedeuten Sie?</a:t>
            </a:r>
            <a:r>
              <a:rPr b="0" lang="de-DE" sz="2400" spc="-1" strike="noStrike">
                <a:solidFill>
                  <a:srgbClr val="d90303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Suchen Sie Beispiele für ein Sachschlagwort, Personenschlagwort us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Anzahl der SW nach Kategor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Terminologische Kontroll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050920" y="2276640"/>
            <a:ext cx="65088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Festlegungskontr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ynonymiekontr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Homonymiekontr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Zerlegungskontr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stimmen der Relatio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( hierarchische, chronologische, assoziative)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ynonym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2388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Ein Benutzer sucht mit Pflanzenschutzmittel, ein anderer mit Schädlingsbekämpfungsmittel, der dritte mit Pestiz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Erziehungswissenschaften – Pädagogi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4869000"/>
            <a:ext cx="8028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Sind die Wörter bedeutungsgleich =  synony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Das System sollte im Hintergrund die  Suchanfragen zusammenfüh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Organisatorisches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835280" y="1915920"/>
            <a:ext cx="73087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22. und 23. Nove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16 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orschla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8.15 – 12.30 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13.30 – 16.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ynonym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94920" y="2133360"/>
            <a:ext cx="7620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Bedeutungsgleich: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chzeit, Eheschließung, Heirat, Vermählung, Trau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Abkür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Ökumenischer Rat der Kirchen , ÖRK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Unterschiedliche Spr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333399"/>
                </a:solidFill>
                <a:latin typeface="Arial"/>
              </a:rPr>
              <a:t>Customer Relationship Management, CRM, Kunden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Fachsprache Alltagsspr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Hierarchische Verweis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Gezielte Suche vom Allgemeinem zum Spezifis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Ziel: Durchgehende Begriffslei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... Gehölz - Baum – Nadelbaum – Tanne – Weißtan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Mehrgliedriger Oberbegriff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Sonderform der hierarchischen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Nationalpark Sächsische Schwe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Sachsen / Nationalpark</a:t>
            </a:r>
            <a:r>
              <a:rPr b="0" lang="de-AT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Bayer Aktiengesell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Nordrhein Westfalen / Chemische 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 Indus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ssoziative Verweis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294920" y="167616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Ursache und Wirkung (Kondition, Fitn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Gegensatzpaare (Kommunismus, Antikommunism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Mittel und Zweck (Lerntechnik, Lern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Wissenschaftsdisziplin und ihr Gegenstand (Sportwissenschaft, S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Sachgebiet und zugehörige Personengruppe (Innenarchitektur, Innenarchite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ssoziative Verweis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600200" y="1828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Komplementärbeziehung (Psychotherapie, Psychologische Beratung: Beide Begriffe überschneiden sich, ohne dass es einen gemeinsamen Oberbegriff gi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Männliche und weibliche Form eines Schlagworts (Arbeiter, Arbeiter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Folge bzw. Nachfolge (Lateinschule, Humanistisches Gymnas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8000"/>
                </a:solidFill>
                <a:latin typeface="Tahoma"/>
                <a:ea typeface="Times New Roman"/>
              </a:rPr>
              <a:t>Chronologische Verweis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286000" y="206064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Chronologische Verweisungen sind eine Sonderform der assoziativen Verweisung. Sie werden bei geographischen Schlagwörtern sowie bei Körperschaften (Namensänderung mit grundlegender Veränderung der Natur der Körperschaft) verwend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Homonym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240" y="21333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 Homonym ist ein Wort, das sich in seiner Bedeutung von einem anderen, gleichgeschriebenen und gleichgesprochenen unterscheid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i="1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rüc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i="1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rücke &lt;Künstlervereinigung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i="1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rücke &lt;Teppic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i="1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rücke &lt;Zahnmedizin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d90303"/>
                </a:solidFill>
                <a:latin typeface="Tahoma"/>
                <a:ea typeface="Times New Roman"/>
              </a:rPr>
              <a:t>Übung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Untersuchen Sie Schlagwortdatensätze in Hinblick auf die verbalen Ele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Relationen der Schlagwörter unterein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Vielleicht finden Sie Homon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Zerlegungskontroll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Häufige Kompositabild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Vierschanzenturniersieger,Winterweizenan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Agrarweltmarkt 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Agrarmarkt und Weltmark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Gebräuchlichke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rgibt die Suche mit den Einzelschlagwörtern sinnvolle Tre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Hinweissätz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981080" y="18284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ntscheidet man sich gegen eine Ansetzung mit dem Kompositum braucht man gelegentlich doch die Verweisungen für den Benut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Hinweissätze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Algenwachstum : verwende Algen und Pflanzenwachs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Weg und Z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42560" y="1915920"/>
            <a:ext cx="810108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heorie – Einl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öglichst viele praktische Ant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Regeln, Nachschlagen, hinterfragen, vergleichen, aus Fehlern lernen, verbessern, festh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otto für den K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Wir gehen einen gemeinsamen We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Hinweissätz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980720" y="1828440"/>
            <a:ext cx="69836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or einigen Jahren konnte man bei der Beschlagwortung auch mit Hinweissätzen verlin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Um diese „Fehler“ zu erhalten hat man einen speziellen Eintrag gebild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ispi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ultur / Geschichte / ALTEV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Mehrgliedrige Ansetzungen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981080" y="18284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as Schlagwort besteht aus mehreren Einzelschlagwörtern, die in der Form in der SWD angesetzt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Wien / Karlskir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Österreich / Bundesministerium für Inn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(Präkomb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Präkombination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Komplexe Themenbeschreibungen werden bereits im Vokabular verank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Kompo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Adjektiv-Substantivverbind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onstige Verket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73152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ahoma"/>
              </a:rPr>
              <a:t>Unterschiede bestehen darin, wo der Arbeitsaufwand liegt, beim Nutzer oder Indexi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ahoma"/>
              </a:rPr>
              <a:t>Präkombination und damit verbundenes größeres Vokabular erleichtert eine spezifische Suche. Höhere Hierarchiestufen sind allerdings nicht suchb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87600" y="44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Präkomb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ndere Normdatei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GKD = Gemeinsame Körperschaftsd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PND = Personennamend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In der SWD gibt es auch Personen und Körperscha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Verlinkungen der Datenbanken untereina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emeinsame  Normdatei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050920" y="2492280"/>
            <a:ext cx="6400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n der nahen Zukunft, vermutlich 2012,  werden die drei Normdatenbanken in eine einzige, die GND,  zusammengefüh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Nach dem K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56167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an ist immer auf dem 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Kursinhalt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303280" y="1915920"/>
            <a:ext cx="68403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Inhaltserschließ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Regeln für den Schlagwortkatalog (RSW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Geschich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erbr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9:21:59Z</dcterms:created>
  <dc:creator>felizitas</dc:creator>
  <dc:description/>
  <dc:language>en-US</dc:language>
  <cp:lastModifiedBy>bystedt</cp:lastModifiedBy>
  <dcterms:modified xsi:type="dcterms:W3CDTF">2011-08-24T10:59:41Z</dcterms:modified>
  <cp:revision>85</cp:revision>
  <dc:subject/>
  <dc:title>Bild 1</dc:title>
</cp:coreProperties>
</file>